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D51-4E3E-40F0-807F-8FC905EE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D42-2872-411A-8FDC-AC284710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0B1-AD86-4ECE-A764-4935D388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F86-32CA-4409-99A1-CA3345B0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D59-0186-4F9E-A2BC-33C51EA3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243-669B-42E3-994F-55DD9FF4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4E1-555F-4061-B9C6-B6204686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6D4-EB53-42B2-9E89-B9A5B880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1CF-2F35-415A-9A33-ABF2FBCD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32E-FE45-4BAC-ACAC-6658B16D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E07-7A73-4CDC-9B4D-0AA36474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4D26-9C48-4DAE-BE8D-89F592BC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2752-9FDD-48D7-96C1-8E7615E0C9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lygon from a known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05160" y="2882880"/>
            <a:ext cx="0" cy="3505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28920" y="5448240"/>
            <a:ext cx="67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0</a:t>
            </a:r>
            <a:r>
              <a:rPr b="0" lang="en-US" sz="10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81440" y="5438880"/>
            <a:ext cx="6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5</a:t>
            </a:r>
            <a:r>
              <a:rPr b="0" lang="en-US" sz="10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78080" y="4133880"/>
            <a:ext cx="2764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68720" y="4753080"/>
            <a:ext cx="276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2320" y="45147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1680" y="388944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4915080"/>
            <a:ext cx="1435320" cy="14349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55800" y="4915080"/>
            <a:ext cx="1435320" cy="14349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76600" y="4924440"/>
            <a:ext cx="628560" cy="1425600"/>
          </a:xfrm>
          <a:custGeom>
            <a:avLst/>
            <a:gdLst/>
            <a:ahLst/>
            <a:rect l="l" t="t" r="r" b="b"/>
            <a:pathLst>
              <a:path w="396" h="898">
                <a:moveTo>
                  <a:pt x="3" y="898"/>
                </a:moveTo>
                <a:lnTo>
                  <a:pt x="159" y="843"/>
                </a:lnTo>
                <a:lnTo>
                  <a:pt x="270" y="756"/>
                </a:lnTo>
                <a:lnTo>
                  <a:pt x="360" y="618"/>
                </a:lnTo>
                <a:lnTo>
                  <a:pt x="396" y="453"/>
                </a:lnTo>
                <a:cubicBezTo>
                  <a:pt x="395" y="397"/>
                  <a:pt x="376" y="332"/>
                  <a:pt x="357" y="282"/>
                </a:cubicBezTo>
                <a:cubicBezTo>
                  <a:pt x="338" y="232"/>
                  <a:pt x="315" y="194"/>
                  <a:pt x="279" y="153"/>
                </a:cubicBezTo>
                <a:cubicBezTo>
                  <a:pt x="238" y="87"/>
                  <a:pt x="187" y="63"/>
                  <a:pt x="141" y="39"/>
                </a:cubicBezTo>
                <a:cubicBezTo>
                  <a:pt x="95" y="14"/>
                  <a:pt x="29" y="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424240" y="4919760"/>
            <a:ext cx="628560" cy="1425600"/>
          </a:xfrm>
          <a:custGeom>
            <a:avLst/>
            <a:gdLst/>
            <a:ahLst/>
            <a:rect l="l" t="t" r="r" b="b"/>
            <a:pathLst>
              <a:path w="396" h="898">
                <a:moveTo>
                  <a:pt x="3" y="898"/>
                </a:moveTo>
                <a:lnTo>
                  <a:pt x="159" y="843"/>
                </a:lnTo>
                <a:lnTo>
                  <a:pt x="270" y="756"/>
                </a:lnTo>
                <a:lnTo>
                  <a:pt x="360" y="618"/>
                </a:lnTo>
                <a:lnTo>
                  <a:pt x="396" y="453"/>
                </a:lnTo>
                <a:cubicBezTo>
                  <a:pt x="395" y="397"/>
                  <a:pt x="376" y="332"/>
                  <a:pt x="357" y="282"/>
                </a:cubicBezTo>
                <a:cubicBezTo>
                  <a:pt x="338" y="232"/>
                  <a:pt x="315" y="194"/>
                  <a:pt x="279" y="153"/>
                </a:cubicBezTo>
                <a:cubicBezTo>
                  <a:pt x="238" y="87"/>
                  <a:pt x="187" y="63"/>
                  <a:pt x="141" y="39"/>
                </a:cubicBezTo>
                <a:cubicBezTo>
                  <a:pt x="95" y="14"/>
                  <a:pt x="29" y="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38280" y="4086360"/>
            <a:ext cx="895320" cy="1552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200400" y="4647960"/>
            <a:ext cx="990720" cy="9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12542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 1.  Draw a line equal to the length of one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1780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 2.  Bisect the line and draw a perpend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24320" y="3073320"/>
            <a:ext cx="391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 3.  From one side of the line  draw a 6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40160" y="4011480"/>
            <a:ext cx="390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 4.  From the other side of the line draw a 45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14840" y="5319720"/>
            <a:ext cx="45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he 45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line will give you the centre for a circle big enough for a squ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14840" y="6014880"/>
            <a:ext cx="45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he 60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line will give you the centre for a circle big enough for a hexagon (6 side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87600" y="2400480"/>
            <a:ext cx="3479760" cy="3479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3483000"/>
            <a:ext cx="2505240" cy="250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0985000">
            <a:off x="2700360" y="4990680"/>
            <a:ext cx="1422360" cy="768240"/>
          </a:xfrm>
          <a:custGeom>
            <a:avLst/>
            <a:gdLst/>
            <a:ahLst/>
            <a:rect l="l" t="t" r="r" b="b"/>
            <a:pathLst>
              <a:path w="896" h="484">
                <a:moveTo>
                  <a:pt x="896" y="484"/>
                </a:moveTo>
                <a:lnTo>
                  <a:pt x="567" y="0"/>
                </a:lnTo>
                <a:lnTo>
                  <a:pt x="0" y="475"/>
                </a:lnTo>
                <a:lnTo>
                  <a:pt x="549" y="137"/>
                </a:lnTo>
                <a:lnTo>
                  <a:pt x="896" y="48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rot="21077400">
            <a:off x="2358720" y="4749480"/>
            <a:ext cx="1422360" cy="768600"/>
          </a:xfrm>
          <a:custGeom>
            <a:avLst/>
            <a:gdLst/>
            <a:ahLst/>
            <a:rect l="l" t="t" r="r" b="b"/>
            <a:pathLst>
              <a:path w="896" h="484">
                <a:moveTo>
                  <a:pt x="896" y="484"/>
                </a:moveTo>
                <a:lnTo>
                  <a:pt x="567" y="0"/>
                </a:lnTo>
                <a:lnTo>
                  <a:pt x="0" y="475"/>
                </a:lnTo>
                <a:lnTo>
                  <a:pt x="549" y="137"/>
                </a:lnTo>
                <a:lnTo>
                  <a:pt x="896" y="48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3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7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9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3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6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9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2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4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9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6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lygon from a known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438280" y="4095720"/>
            <a:ext cx="890640" cy="1542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242880" y="4691160"/>
            <a:ext cx="947880" cy="947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05160" y="2882880"/>
            <a:ext cx="0" cy="2933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78080" y="4133880"/>
            <a:ext cx="2764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68720" y="4753080"/>
            <a:ext cx="276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2320" y="45147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1680" y="388944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16200" y="4157640"/>
            <a:ext cx="588960" cy="593640"/>
          </a:xfrm>
          <a:custGeom>
            <a:avLst/>
            <a:gdLst/>
            <a:ahLst/>
            <a:rect l="l" t="t" r="r" b="b"/>
            <a:pathLst>
              <a:path w="408" h="411">
                <a:moveTo>
                  <a:pt x="0" y="411"/>
                </a:moveTo>
                <a:cubicBezTo>
                  <a:pt x="4" y="388"/>
                  <a:pt x="4" y="320"/>
                  <a:pt x="24" y="271"/>
                </a:cubicBezTo>
                <a:cubicBezTo>
                  <a:pt x="44" y="222"/>
                  <a:pt x="74" y="171"/>
                  <a:pt x="122" y="117"/>
                </a:cubicBezTo>
                <a:cubicBezTo>
                  <a:pt x="170" y="63"/>
                  <a:pt x="250" y="38"/>
                  <a:pt x="298" y="19"/>
                </a:cubicBezTo>
                <a:cubicBezTo>
                  <a:pt x="346" y="0"/>
                  <a:pt x="385" y="6"/>
                  <a:pt x="408" y="3"/>
                </a:cubicBez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308400" y="4157640"/>
            <a:ext cx="604800" cy="609480"/>
          </a:xfrm>
          <a:custGeom>
            <a:avLst/>
            <a:gdLst/>
            <a:ahLst/>
            <a:rect l="l" t="t" r="r" b="b"/>
            <a:pathLst>
              <a:path w="408" h="411">
                <a:moveTo>
                  <a:pt x="0" y="411"/>
                </a:moveTo>
                <a:cubicBezTo>
                  <a:pt x="4" y="388"/>
                  <a:pt x="4" y="320"/>
                  <a:pt x="24" y="271"/>
                </a:cubicBezTo>
                <a:cubicBezTo>
                  <a:pt x="44" y="222"/>
                  <a:pt x="74" y="171"/>
                  <a:pt x="122" y="117"/>
                </a:cubicBezTo>
                <a:cubicBezTo>
                  <a:pt x="170" y="63"/>
                  <a:pt x="250" y="38"/>
                  <a:pt x="298" y="19"/>
                </a:cubicBezTo>
                <a:cubicBezTo>
                  <a:pt x="346" y="0"/>
                  <a:pt x="385" y="6"/>
                  <a:pt x="408" y="3"/>
                </a:cubicBez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730600" y="4136400"/>
            <a:ext cx="574560" cy="579240"/>
          </a:xfrm>
          <a:custGeom>
            <a:avLst/>
            <a:gdLst/>
            <a:ahLst/>
            <a:rect l="l" t="t" r="r" b="b"/>
            <a:pathLst>
              <a:path w="408" h="411">
                <a:moveTo>
                  <a:pt x="0" y="411"/>
                </a:moveTo>
                <a:cubicBezTo>
                  <a:pt x="4" y="388"/>
                  <a:pt x="4" y="320"/>
                  <a:pt x="24" y="271"/>
                </a:cubicBezTo>
                <a:cubicBezTo>
                  <a:pt x="44" y="222"/>
                  <a:pt x="74" y="171"/>
                  <a:pt x="122" y="117"/>
                </a:cubicBezTo>
                <a:cubicBezTo>
                  <a:pt x="170" y="63"/>
                  <a:pt x="250" y="38"/>
                  <a:pt x="298" y="19"/>
                </a:cubicBezTo>
                <a:cubicBezTo>
                  <a:pt x="346" y="0"/>
                  <a:pt x="385" y="6"/>
                  <a:pt x="408" y="3"/>
                </a:cubicBez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305160" y="4117320"/>
            <a:ext cx="588960" cy="593640"/>
          </a:xfrm>
          <a:custGeom>
            <a:avLst/>
            <a:gdLst/>
            <a:ahLst/>
            <a:rect l="l" t="t" r="r" b="b"/>
            <a:pathLst>
              <a:path w="408" h="411">
                <a:moveTo>
                  <a:pt x="0" y="411"/>
                </a:moveTo>
                <a:cubicBezTo>
                  <a:pt x="4" y="388"/>
                  <a:pt x="4" y="320"/>
                  <a:pt x="24" y="271"/>
                </a:cubicBezTo>
                <a:cubicBezTo>
                  <a:pt x="44" y="222"/>
                  <a:pt x="74" y="171"/>
                  <a:pt x="122" y="117"/>
                </a:cubicBezTo>
                <a:cubicBezTo>
                  <a:pt x="170" y="63"/>
                  <a:pt x="250" y="38"/>
                  <a:pt x="298" y="19"/>
                </a:cubicBezTo>
                <a:cubicBezTo>
                  <a:pt x="346" y="0"/>
                  <a:pt x="385" y="6"/>
                  <a:pt x="408" y="3"/>
                </a:cubicBez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10000" y="4435560"/>
            <a:ext cx="144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8160" y="4197240"/>
            <a:ext cx="6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5080" y="1247760"/>
            <a:ext cx="44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f  you bisect the distance between 4 sides and 6 sides you find the centre of a circle for a pentagon (5 sided polyg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87920" y="2365200"/>
            <a:ext cx="445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5. Use a compass to bisect the distance. Open the compass to more than the distance and mark an arc from point 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7920" y="4146480"/>
            <a:ext cx="44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6. Mark an arc from point 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7920" y="5284800"/>
            <a:ext cx="445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7. Bisect the distance and mark the centre of the circle for the pentag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30600" y="3251160"/>
            <a:ext cx="581040" cy="898560"/>
          </a:xfrm>
          <a:custGeom>
            <a:avLst/>
            <a:gdLst/>
            <a:ahLst/>
            <a:rect l="l" t="t" r="r" b="b"/>
            <a:pathLst>
              <a:path w="366" h="566">
                <a:moveTo>
                  <a:pt x="366" y="552"/>
                </a:moveTo>
                <a:lnTo>
                  <a:pt x="63" y="0"/>
                </a:lnTo>
                <a:lnTo>
                  <a:pt x="0" y="566"/>
                </a:lnTo>
                <a:lnTo>
                  <a:pt x="118" y="274"/>
                </a:lnTo>
                <a:lnTo>
                  <a:pt x="366" y="55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17640" y="4734000"/>
            <a:ext cx="587520" cy="904680"/>
          </a:xfrm>
          <a:custGeom>
            <a:avLst/>
            <a:gdLst/>
            <a:ahLst/>
            <a:rect l="l" t="t" r="r" b="b"/>
            <a:pathLst>
              <a:path w="370" h="570">
                <a:moveTo>
                  <a:pt x="370" y="14"/>
                </a:moveTo>
                <a:lnTo>
                  <a:pt x="81" y="570"/>
                </a:lnTo>
                <a:lnTo>
                  <a:pt x="0" y="0"/>
                </a:lnTo>
                <a:lnTo>
                  <a:pt x="126" y="319"/>
                </a:lnTo>
                <a:lnTo>
                  <a:pt x="370" y="1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8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7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43280" y="2959200"/>
            <a:ext cx="2781000" cy="2679480"/>
          </a:xfrm>
          <a:custGeom>
            <a:avLst/>
            <a:gdLst/>
            <a:ahLst/>
            <a:rect l="l" t="t" r="r" b="b"/>
            <a:pathLst>
              <a:path w="1752" h="1688">
                <a:moveTo>
                  <a:pt x="328" y="1680"/>
                </a:moveTo>
                <a:lnTo>
                  <a:pt x="1408" y="1688"/>
                </a:lnTo>
                <a:lnTo>
                  <a:pt x="1752" y="632"/>
                </a:lnTo>
                <a:lnTo>
                  <a:pt x="856" y="0"/>
                </a:lnTo>
                <a:lnTo>
                  <a:pt x="0" y="616"/>
                </a:lnTo>
                <a:lnTo>
                  <a:pt x="328" y="168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00400" y="4647960"/>
            <a:ext cx="990720" cy="9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05160" y="2882880"/>
            <a:ext cx="0" cy="2933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4720" y="4133880"/>
            <a:ext cx="3650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67200" y="4753080"/>
            <a:ext cx="529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62320" y="45147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1680" y="388944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4444920"/>
            <a:ext cx="425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8160" y="4197240"/>
            <a:ext cx="6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46240"/>
            <a:ext cx="2984400" cy="298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lygon from a known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450880" y="4444920"/>
            <a:ext cx="850680" cy="1193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24240" y="5646600"/>
            <a:ext cx="1784160" cy="73980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7211000">
            <a:off x="3933720" y="4512960"/>
            <a:ext cx="1784520" cy="73980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rot="4389000">
            <a:off x="929520" y="4519800"/>
            <a:ext cx="1784160" cy="73944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13040" y="2822400"/>
            <a:ext cx="1388880" cy="1136880"/>
          </a:xfrm>
          <a:custGeom>
            <a:avLst/>
            <a:gdLst/>
            <a:ahLst/>
            <a:rect l="l" t="t" r="r" b="b"/>
            <a:pathLst>
              <a:path w="875" h="716">
                <a:moveTo>
                  <a:pt x="875" y="70"/>
                </a:moveTo>
                <a:lnTo>
                  <a:pt x="141" y="0"/>
                </a:lnTo>
                <a:lnTo>
                  <a:pt x="0" y="716"/>
                </a:lnTo>
                <a:lnTo>
                  <a:pt x="210" y="90"/>
                </a:lnTo>
                <a:lnTo>
                  <a:pt x="875" y="7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14880" y="2913120"/>
            <a:ext cx="1390320" cy="990720"/>
          </a:xfrm>
          <a:custGeom>
            <a:avLst/>
            <a:gdLst/>
            <a:ahLst/>
            <a:rect l="l" t="t" r="r" b="b"/>
            <a:pathLst>
              <a:path w="876" h="624">
                <a:moveTo>
                  <a:pt x="0" y="13"/>
                </a:moveTo>
                <a:lnTo>
                  <a:pt x="639" y="0"/>
                </a:lnTo>
                <a:lnTo>
                  <a:pt x="876" y="624"/>
                </a:lnTo>
                <a:lnTo>
                  <a:pt x="589" y="65"/>
                </a:lnTo>
                <a:lnTo>
                  <a:pt x="0" y="1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03720" y="3936600"/>
            <a:ext cx="520560" cy="1701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301560" y="2946240"/>
            <a:ext cx="142236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30320" y="2946240"/>
            <a:ext cx="1371600" cy="1003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30320" y="3949560"/>
            <a:ext cx="520920" cy="1689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51240" y="563868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36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aving set out the centre of the circle, use the following steps to set out the pentag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26200" y="1755720"/>
            <a:ext cx="38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1. Set the compass to the circle radius and draw the cir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26200" y="2865600"/>
            <a:ext cx="38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2. Set the compass to the length of the side and step it off around the cir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26200" y="4351320"/>
            <a:ext cx="381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3. Joins up the marks to form the pentag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659480" y="3860640"/>
            <a:ext cx="20304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27280" y="3889440"/>
            <a:ext cx="43488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9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8000"/>
                            </p:stCondLst>
                            <p:childTnLst>
                              <p:par>
                                <p:cTn id="1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9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4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82560" y="2641680"/>
            <a:ext cx="3497400" cy="3004920"/>
          </a:xfrm>
          <a:custGeom>
            <a:avLst/>
            <a:gdLst/>
            <a:ahLst/>
            <a:rect l="l" t="t" r="r" b="b"/>
            <a:pathLst>
              <a:path w="2203" h="1893">
                <a:moveTo>
                  <a:pt x="539" y="0"/>
                </a:moveTo>
                <a:lnTo>
                  <a:pt x="0" y="942"/>
                </a:lnTo>
                <a:lnTo>
                  <a:pt x="539" y="1893"/>
                </a:lnTo>
                <a:lnTo>
                  <a:pt x="1645" y="1893"/>
                </a:lnTo>
                <a:lnTo>
                  <a:pt x="2203" y="942"/>
                </a:lnTo>
                <a:lnTo>
                  <a:pt x="1659" y="0"/>
                </a:lnTo>
                <a:lnTo>
                  <a:pt x="539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ef4f4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lygon from a known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438280" y="4135320"/>
            <a:ext cx="866880" cy="150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200400" y="4647960"/>
            <a:ext cx="990720" cy="9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05160" y="2882880"/>
            <a:ext cx="0" cy="2933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38400" y="4133880"/>
            <a:ext cx="517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1640" y="4753080"/>
            <a:ext cx="606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62320" y="45147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1680" y="388944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03480" y="4444920"/>
            <a:ext cx="628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8160" y="4197240"/>
            <a:ext cx="6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87600" y="2400480"/>
            <a:ext cx="3479760" cy="3479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24240" y="5646600"/>
            <a:ext cx="1784160" cy="73980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7873400">
            <a:off x="4076640" y="4655880"/>
            <a:ext cx="1784160" cy="73980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rot="3633000">
            <a:off x="799920" y="4698720"/>
            <a:ext cx="1784160" cy="73980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 rot="18083400">
            <a:off x="837720" y="2802960"/>
            <a:ext cx="1784160" cy="74052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 rot="3516600">
            <a:off x="4024080" y="2810160"/>
            <a:ext cx="1784160" cy="74016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432160" y="1878840"/>
            <a:ext cx="1784160" cy="73980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90760" y="2552760"/>
            <a:ext cx="114480" cy="17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52600" y="2533680"/>
            <a:ext cx="9036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62600" y="413388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456920" y="413388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200480" y="4133880"/>
            <a:ext cx="855720" cy="1481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0200" y="2657520"/>
            <a:ext cx="855360" cy="1481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576080" y="2652840"/>
            <a:ext cx="855720" cy="1481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2040" y="4138560"/>
            <a:ext cx="855720" cy="1481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5646600"/>
            <a:ext cx="1770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3600" y="2641680"/>
            <a:ext cx="1770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1292400"/>
            <a:ext cx="3657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4600" y="1190520"/>
            <a:ext cx="89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 same principles apply to the hex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26200" y="1755720"/>
            <a:ext cx="38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1. Set the compass to the circle radius and draw the cir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26200" y="2865600"/>
            <a:ext cx="38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2. Set the compass to the length of the side and step it off around the cir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26200" y="4351320"/>
            <a:ext cx="381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3. Joins up the marks to form the hexag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6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1500"/>
                            </p:stCondLst>
                            <p:childTnLst>
                              <p:par>
                                <p:cTn id="2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6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6500"/>
                            </p:stCondLst>
                            <p:childTnLst>
                              <p:par>
                                <p:cTn id="233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0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7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8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20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8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1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3828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438280" y="4066920"/>
            <a:ext cx="906480" cy="1571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200400" y="4647960"/>
            <a:ext cx="990720" cy="9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05160" y="2882880"/>
            <a:ext cx="0" cy="2933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4133880"/>
            <a:ext cx="460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30560" y="4753080"/>
            <a:ext cx="412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62320" y="45147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1680" y="388944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56120" y="4444920"/>
            <a:ext cx="352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8160" y="4197240"/>
            <a:ext cx="6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lygon from a known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9400" y="4133880"/>
            <a:ext cx="1085760" cy="314280"/>
          </a:xfrm>
          <a:custGeom>
            <a:avLst/>
            <a:gdLst/>
            <a:ahLst/>
            <a:rect l="l" t="t" r="r" b="b"/>
            <a:pathLst>
              <a:path w="684" h="198">
                <a:moveTo>
                  <a:pt x="684" y="0"/>
                </a:moveTo>
                <a:lnTo>
                  <a:pt x="0" y="114"/>
                </a:lnTo>
                <a:lnTo>
                  <a:pt x="684" y="198"/>
                </a:lnTo>
                <a:lnTo>
                  <a:pt x="204" y="102"/>
                </a:lnTo>
                <a:lnTo>
                  <a:pt x="68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19400" y="3819600"/>
            <a:ext cx="1085760" cy="314280"/>
          </a:xfrm>
          <a:custGeom>
            <a:avLst/>
            <a:gdLst/>
            <a:ahLst/>
            <a:rect l="l" t="t" r="r" b="b"/>
            <a:pathLst>
              <a:path w="684" h="198">
                <a:moveTo>
                  <a:pt x="684" y="0"/>
                </a:moveTo>
                <a:lnTo>
                  <a:pt x="0" y="114"/>
                </a:lnTo>
                <a:lnTo>
                  <a:pt x="684" y="198"/>
                </a:lnTo>
                <a:lnTo>
                  <a:pt x="204" y="102"/>
                </a:lnTo>
                <a:lnTo>
                  <a:pt x="68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19400" y="3495600"/>
            <a:ext cx="1085760" cy="314280"/>
          </a:xfrm>
          <a:custGeom>
            <a:avLst/>
            <a:gdLst/>
            <a:ahLst/>
            <a:rect l="l" t="t" r="r" b="b"/>
            <a:pathLst>
              <a:path w="684" h="198">
                <a:moveTo>
                  <a:pt x="684" y="0"/>
                </a:moveTo>
                <a:lnTo>
                  <a:pt x="0" y="114"/>
                </a:lnTo>
                <a:lnTo>
                  <a:pt x="684" y="198"/>
                </a:lnTo>
                <a:lnTo>
                  <a:pt x="204" y="102"/>
                </a:lnTo>
                <a:lnTo>
                  <a:pt x="68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19400" y="3181320"/>
            <a:ext cx="1085760" cy="314280"/>
          </a:xfrm>
          <a:custGeom>
            <a:avLst/>
            <a:gdLst/>
            <a:ahLst/>
            <a:rect l="l" t="t" r="r" b="b"/>
            <a:pathLst>
              <a:path w="684" h="198">
                <a:moveTo>
                  <a:pt x="684" y="0"/>
                </a:moveTo>
                <a:lnTo>
                  <a:pt x="0" y="114"/>
                </a:lnTo>
                <a:lnTo>
                  <a:pt x="684" y="198"/>
                </a:lnTo>
                <a:lnTo>
                  <a:pt x="204" y="102"/>
                </a:lnTo>
                <a:lnTo>
                  <a:pt x="68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52880" y="380988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05000" y="349560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43160" y="317196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81400" y="360360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7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00480" y="327024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8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00480" y="296532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9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6440" y="10587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set the circle centre for other polygon is eas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2000" y="19591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1. Set the compass to the distance between 5 &amp; 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72000" y="29829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2. Mark of the distance from 6 along the perpendic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1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3" nodeType="afterEffect" fill="hold" presetClass="entr" presetID="1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3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8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6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20840" y="2093760"/>
            <a:ext cx="3975120" cy="3886200"/>
          </a:xfrm>
          <a:custGeom>
            <a:avLst/>
            <a:gdLst/>
            <a:ahLst/>
            <a:rect l="l" t="t" r="r" b="b"/>
            <a:pathLst>
              <a:path w="2504" h="2448">
                <a:moveTo>
                  <a:pt x="2504" y="1544"/>
                </a:moveTo>
                <a:lnTo>
                  <a:pt x="2264" y="496"/>
                </a:lnTo>
                <a:lnTo>
                  <a:pt x="1264" y="0"/>
                </a:lnTo>
                <a:lnTo>
                  <a:pt x="248" y="480"/>
                </a:lnTo>
                <a:lnTo>
                  <a:pt x="0" y="1560"/>
                </a:lnTo>
                <a:lnTo>
                  <a:pt x="712" y="2440"/>
                </a:lnTo>
                <a:lnTo>
                  <a:pt x="1824" y="2448"/>
                </a:lnTo>
                <a:lnTo>
                  <a:pt x="2504" y="154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5967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05160" y="3211560"/>
            <a:ext cx="0" cy="2933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4462560"/>
            <a:ext cx="460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30560" y="5081760"/>
            <a:ext cx="412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2320" y="484344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1680" y="421812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56120" y="4773600"/>
            <a:ext cx="352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8160" y="4525920"/>
            <a:ext cx="6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lygon from a known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29040" y="4138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05000" y="382428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43160" y="350028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81400" y="393228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7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00480" y="359892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8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00480" y="329400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9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437920" y="4138560"/>
            <a:ext cx="86364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70080" y="2081160"/>
            <a:ext cx="4089240" cy="4089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28920" y="5972040"/>
            <a:ext cx="1766880" cy="820800"/>
          </a:xfrm>
          <a:custGeom>
            <a:avLst/>
            <a:gdLst/>
            <a:ahLst/>
            <a:rect l="l" t="t" r="r" b="b"/>
            <a:pathLst>
              <a:path w="1113" h="517">
                <a:moveTo>
                  <a:pt x="0" y="0"/>
                </a:moveTo>
                <a:lnTo>
                  <a:pt x="565" y="517"/>
                </a:lnTo>
                <a:lnTo>
                  <a:pt x="1113" y="0"/>
                </a:lnTo>
                <a:lnTo>
                  <a:pt x="562" y="403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14880" y="4567320"/>
            <a:ext cx="1201680" cy="1393920"/>
          </a:xfrm>
          <a:custGeom>
            <a:avLst/>
            <a:gdLst/>
            <a:ahLst/>
            <a:rect l="l" t="t" r="r" b="b"/>
            <a:pathLst>
              <a:path w="757" h="878">
                <a:moveTo>
                  <a:pt x="0" y="878"/>
                </a:moveTo>
                <a:lnTo>
                  <a:pt x="757" y="763"/>
                </a:lnTo>
                <a:lnTo>
                  <a:pt x="690" y="0"/>
                </a:lnTo>
                <a:lnTo>
                  <a:pt x="667" y="694"/>
                </a:lnTo>
                <a:lnTo>
                  <a:pt x="0" y="87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60" y="2857680"/>
            <a:ext cx="1022400" cy="1728720"/>
          </a:xfrm>
          <a:custGeom>
            <a:avLst/>
            <a:gdLst/>
            <a:ahLst/>
            <a:rect l="l" t="t" r="r" b="b"/>
            <a:pathLst>
              <a:path w="644" h="1089">
                <a:moveTo>
                  <a:pt x="396" y="1089"/>
                </a:moveTo>
                <a:lnTo>
                  <a:pt x="0" y="434"/>
                </a:lnTo>
                <a:lnTo>
                  <a:pt x="644" y="0"/>
                </a:lnTo>
                <a:lnTo>
                  <a:pt x="111" y="459"/>
                </a:lnTo>
                <a:lnTo>
                  <a:pt x="396" y="108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rot="3066000">
            <a:off x="676440" y="5121720"/>
            <a:ext cx="1766880" cy="820800"/>
          </a:xfrm>
          <a:custGeom>
            <a:avLst/>
            <a:gdLst/>
            <a:ahLst/>
            <a:rect l="l" t="t" r="r" b="b"/>
            <a:pathLst>
              <a:path w="1113" h="517">
                <a:moveTo>
                  <a:pt x="0" y="0"/>
                </a:moveTo>
                <a:lnTo>
                  <a:pt x="565" y="517"/>
                </a:lnTo>
                <a:lnTo>
                  <a:pt x="1113" y="0"/>
                </a:lnTo>
                <a:lnTo>
                  <a:pt x="562" y="403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05360" y="2833560"/>
            <a:ext cx="965160" cy="1703520"/>
          </a:xfrm>
          <a:custGeom>
            <a:avLst/>
            <a:gdLst/>
            <a:ahLst/>
            <a:rect l="l" t="t" r="r" b="b"/>
            <a:pathLst>
              <a:path w="608" h="1073">
                <a:moveTo>
                  <a:pt x="254" y="1073"/>
                </a:moveTo>
                <a:lnTo>
                  <a:pt x="608" y="393"/>
                </a:lnTo>
                <a:lnTo>
                  <a:pt x="0" y="0"/>
                </a:lnTo>
                <a:lnTo>
                  <a:pt x="498" y="425"/>
                </a:lnTo>
                <a:lnTo>
                  <a:pt x="254" y="107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19360" y="1722600"/>
            <a:ext cx="1590480" cy="1135080"/>
          </a:xfrm>
          <a:custGeom>
            <a:avLst/>
            <a:gdLst/>
            <a:ahLst/>
            <a:rect l="l" t="t" r="r" b="b"/>
            <a:pathLst>
              <a:path w="1002" h="715">
                <a:moveTo>
                  <a:pt x="0" y="715"/>
                </a:moveTo>
                <a:lnTo>
                  <a:pt x="262" y="0"/>
                </a:lnTo>
                <a:lnTo>
                  <a:pt x="1002" y="223"/>
                </a:lnTo>
                <a:lnTo>
                  <a:pt x="313" y="102"/>
                </a:lnTo>
                <a:lnTo>
                  <a:pt x="0" y="71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24240" y="1735200"/>
            <a:ext cx="1571760" cy="1098360"/>
          </a:xfrm>
          <a:custGeom>
            <a:avLst/>
            <a:gdLst/>
            <a:ahLst/>
            <a:rect l="l" t="t" r="r" b="b"/>
            <a:pathLst>
              <a:path w="990" h="692">
                <a:moveTo>
                  <a:pt x="990" y="692"/>
                </a:moveTo>
                <a:lnTo>
                  <a:pt x="726" y="0"/>
                </a:lnTo>
                <a:lnTo>
                  <a:pt x="0" y="215"/>
                </a:lnTo>
                <a:lnTo>
                  <a:pt x="675" y="102"/>
                </a:lnTo>
                <a:lnTo>
                  <a:pt x="990" y="69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829040" y="2752560"/>
            <a:ext cx="12384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19560" y="197172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157360" y="4514760"/>
            <a:ext cx="228600" cy="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214280" y="4524120"/>
            <a:ext cx="30960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4880" y="2781360"/>
            <a:ext cx="23832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25680" y="5967360"/>
            <a:ext cx="1790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216320" y="4557240"/>
            <a:ext cx="1092240" cy="142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4901760" y="2843280"/>
            <a:ext cx="406440" cy="1714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301560" y="2080800"/>
            <a:ext cx="16002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701360" y="2081160"/>
            <a:ext cx="1600200" cy="77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307880" y="2855880"/>
            <a:ext cx="393480" cy="1714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08240" y="4570560"/>
            <a:ext cx="1117440" cy="1396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91040" y="1512720"/>
            <a:ext cx="325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1. Set the compass to the circle radius and draw the cir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4400" y="3465360"/>
            <a:ext cx="327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2. Set the compass to the length of the side and step it off around the cir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8200" y="5708520"/>
            <a:ext cx="329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3. Joins up the marks to form the heptag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062000"/>
            <a:ext cx="54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w for a heptagon (7 S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3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1500"/>
                            </p:stCondLst>
                            <p:childTnLst>
                              <p:par>
                                <p:cTn id="350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9000"/>
                            </p:stCondLst>
                            <p:childTnLst>
                              <p:par>
                                <p:cTn id="357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6500"/>
                            </p:stCondLst>
                            <p:childTnLst>
                              <p:par>
                                <p:cTn id="364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4000"/>
                            </p:stCondLst>
                            <p:childTnLst>
                              <p:par>
                                <p:cTn id="371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8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1500"/>
                            </p:stCondLst>
                            <p:childTnLst>
                              <p:par>
                                <p:cTn id="378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5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95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1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2500"/>
                            </p:stCondLst>
                            <p:childTnLst>
                              <p:par>
                                <p:cTn id="39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4000"/>
                            </p:stCondLst>
                            <p:childTnLst>
                              <p:par>
                                <p:cTn id="40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5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67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8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1:40:05Z</dcterms:created>
  <dc:creator>cheetham</dc:creator>
  <dc:description/>
  <dc:language>en-US</dc:language>
  <cp:lastModifiedBy>gcheetham</cp:lastModifiedBy>
  <dcterms:modified xsi:type="dcterms:W3CDTF">2007-09-12T23:49:15Z</dcterms:modified>
  <cp:revision>14</cp:revision>
  <dc:subject/>
  <dc:title>Polygon from a known side</dc:title>
</cp:coreProperties>
</file>